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E1BF-F2D4-4FE6-91F2-6F64E0EFF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5C21-1D59-4D7B-8F7D-37218CD4C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352B-A7E9-4D9F-AC49-DBE921730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65B6-561C-4FC0-A247-E725DCB3C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97CC-986F-48BB-811F-FAB9A5384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6AC4-911E-4143-A637-E40F7A8D9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AC33-43C7-4D0B-A286-6E8E20AF0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2405-7D2A-4B3E-8F32-346C8A2E1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5D08-A20D-4FB9-A0D9-5076EEF01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BA37-FC5C-4631-9DA5-D087E3DD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355D-C59F-4674-9165-F1C719CF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388B-AA97-4F63-AE81-E48E11E0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0F3A3-130A-4B98-9787-98202C240C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2637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400" spc="-1" strike="noStrike">
                <a:solidFill>
                  <a:srgbClr val="000000"/>
                </a:solidFill>
                <a:latin typeface="Arial"/>
              </a:rPr>
              <a:t>БАЛНЕОТЕРАПИЈ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32000" y="5516640"/>
            <a:ext cx="6400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ц. др Катарина Парезановић Или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4360" y="404640"/>
            <a:ext cx="791496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ИНТЕГРИСАНЕ АКАДЕМСКЕ СТУДИЈЕ МЕДИЦИНЕ</a:t>
            </a:r>
            <a:br>
              <a:rPr sz="2400"/>
            </a:b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ФИЗИКАЛНА МЕДИЦИНА И РЕХАБИЛИТАЦИЈА</a:t>
            </a:r>
            <a:br>
              <a:rPr sz="1800"/>
            </a:b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Наставна јединиц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Подела према милимоларној концентрациј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На основу милимоларних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концентрација јона могуце је поредити минералне воде са осмотским притиском крви. Према таквој анализи минералне воде се деле на хипотоне, изотоне и хипертоне. Изотоне воде треба да имају укупну милимоларрну концентрацију око 300, а што одговара раствору од 9 гр NaCl /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Мол= молекуларна те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ина (МГ), атомска те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ина у грам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Темп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6920" y="1773000"/>
            <a:ext cx="734544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Минералне воде према темперури се деле на хладне и топле. 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Хладне воде су када је температура мања од&lt; 20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, а топле када је температура веца од &gt; 20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. 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Хипотермне су од 20-30 степени, хомеотермне 30-40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и хипертерме изнад 40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(Врањска бања, Јошани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ка бања, Куршумлијска и др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Радиоактивно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4000" y="18558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Радиокативност -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у минералним водама нај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ш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 има радона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који је еманација радијум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Полу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ивот му је 3,82 дана, емитује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зраке. Алфа имају лековита својства и налазе се у водама Нишке бање као и Сокобањ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4920" y="304920"/>
            <a:ext cx="8280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Класификација минералних вод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495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Воде које сад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рж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е више од 1 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воде суве супстанце. Карактер ових вода одре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ују јони који су заступљени са више од 20 миливал. Ове воде на основу минералних састојака делимо на хидрокарбонатне (NaCl i KCl су алкалне и земноалкалне ако садрзе Ca, Mg), сулфатне: (Na сулфатне и Mg сулфатне) и хлоридне (слане воде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Минералне воде које садр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е мале коли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ине минералних састојака, али који су зна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ајно биолошки активни. Овде спадају следе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е воде: сулфидне-садр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е најмање 1mg/l раствореног сумпора, јодне-садр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е најмање 1mg/l раствореног јода, гвоздјевите-садрзе минимално 10 mg/l раствореног гво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жђ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а, арсенске-садр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е најмање 0,7 mg As/l воде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Класификација минералних в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Минералне воде које садр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е растворене гасове.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Ове воде се деле на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угљенокиселе-сард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е најмање 1 гр/л раствореног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2 (Бујанова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ка бања), сулфидне – садр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е мале коли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ине H2S и радонс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Олигоминералне воде "дивље воде". Ове воде садрзе до 1 г/л растворене супстанце. Температура је 2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° (Пролом бања). Како ове воде немају много соли могу да се пију као диуретско средство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-3 литрa на д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4920" y="5569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RS" sz="40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ин употребе минералних в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000" y="1916280"/>
            <a:ext cx="784836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пијење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купање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вагиналним испирањ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инхалирање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. (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јодно бромн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радиоактивн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слане и хидрокарбонатне вод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амзиградска бањ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Slika 3" descr=""/>
          <p:cNvPicPr/>
          <p:nvPr/>
        </p:nvPicPr>
        <p:blipFill>
          <a:blip r:embed="rId1"/>
          <a:stretch/>
        </p:blipFill>
        <p:spPr>
          <a:xfrm>
            <a:off x="1676520" y="2158920"/>
            <a:ext cx="5562360" cy="39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ДЕФИНИЦИЈ</a:t>
            </a:r>
            <a:r>
              <a:rPr b="0" lang="sr-RS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Балнеологија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је нау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на дисиплина која проу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ава природне лековите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иниоце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200" spc="-1" strike="noStrike">
                <a:solidFill>
                  <a:srgbClr val="000000"/>
                </a:solidFill>
                <a:latin typeface="Arial"/>
              </a:rPr>
              <a:t>Балнеотерапија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је кориш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ење природних лековитих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иниоца у профилакти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ке и терапијске сврх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Минералне вод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Под минералним водама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се подразумевају воде које имају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више од l/gr/l воде, минералних састојака или је температура воде таква да се мо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е користити у терапијске сврхе. Према геолошком пореклу минералне воде се деле на јувенилне, вадозне и фосил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Јувенилне вод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8036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175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Јувенилне воде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потичу из усијане магме која се у унутрашњости земље налази под великим притиском. Ако се тај притисак услед тектонских поремећаја смањи, прегрејана водена пара садржана у магми излази из ње и продире у слојеве бл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же з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емнљиној површини.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Путем се хлади и кондензује, а отапањем минерала из разних земљиних слојева, ст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е минерализацију. Кон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но овако минерализована вода избија, на површину земље, на местима најмањег отпора у облику извора. Јувенилне воде се одликују константним хемијским саставом, температуром и капацитетом извирањ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Вадозне вод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561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7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Arial"/>
              </a:rPr>
              <a:t>Вадозне воде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су површинске воде. 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Након обилних падавина површинске воде пониру у земљу, бивају обога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ене минералима и гасовима , да би се поново појавиле на површини као минералне воде. 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Ове воде мења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ј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у током године састав, температуру и капацитете извирања,а што зависи од коли</a:t>
            </a:r>
            <a:r>
              <a:rPr b="0" lang="sr-RS" sz="26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ине падави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Фосилне (дубинске) вод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1360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Фосилне (дубинске) воде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 долазе из великих дубина и оне су по саставу стабилније и топлије. Настају из падавина које продиру у дубоке пешчане и шљунчане слојеве и ту остају затвирене, јер се се на те слојеве исталожили непропусни слојеви. До тих вода се допире обично бушењем, а како су окружене непропусним слојевима, то се не могу обнављати, те им је трајање ограничено. Такве воде често прате налазишта петролеја па се називају петролејским водама, а како уз то садрже јод, зову се и јодне воде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Карактеристике минералних в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4000" y="2205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Основне карактеристике минералних вода с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минерализациј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јонски састав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температур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садр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ај гасов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радиоактивност и др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Минерализациј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Arial"/>
              </a:rPr>
              <a:t>Минерализација-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коли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ина растворених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врстих материја које се у водама налазе у облику јона,недисоцираних молекула и колоида. Ова коли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ина сувих материја се одре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ује тако што се вода греје на 180º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ему се добија суви остатак који омогу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ава класификацију минералних вода на : минералне -</a:t>
            </a:r>
            <a:r>
              <a:rPr b="0" lang="sr-R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ако садр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е више од 1гр/л и олигоминералне -ако садрзе мање од 1гр/л сувог остатк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Јонски саста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Arial"/>
              </a:rPr>
              <a:t>Јонски састав-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представља садзај јона-катјона и ањона. Од  катјона нај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еш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е сре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емо: 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, Mg++, Cа++, а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од ањона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HCO³, Cl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R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СО4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Елементи у трагу, али  биолошки врло активни, су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J, Br, Fe, S, As, Cu,  Co и др. 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Најзна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ајнији гасови су: CО2, H2С и радон. 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Поред њих сре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у се још и метан, етан, хелијум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7T09:08:06Z</dcterms:created>
  <dc:creator>WIN98SE</dc:creator>
  <dc:description/>
  <dc:language>en-US</dc:language>
  <cp:lastModifiedBy>veliki</cp:lastModifiedBy>
  <dcterms:modified xsi:type="dcterms:W3CDTF">2014-02-12T14:20:32Z</dcterms:modified>
  <cp:revision>10</cp:revision>
  <dc:subject/>
  <dc:title>Balneoterapija </dc:title>
</cp:coreProperties>
</file>