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B61-03B4-43D4-B9A9-346419A8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5729-CE8E-410A-8260-0717A5AE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66E-5510-4E0D-8A3E-56D802AC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68A-0B70-4FE5-BBA9-23F20F86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D219-5678-4A73-AE51-BB1EB33B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D38-D4AE-45E1-8428-72068974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A90-5CA3-4ED6-B066-8B830258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D1E-B5AC-4EB3-963F-C4D29E20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26F-B783-4DC7-AA6F-B05F5CE4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119A-8615-44AF-814F-B9838254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1C4-CF7B-4876-904D-2A16D91A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DD3-68C9-4DC3-B46C-98739C79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5282-CC18-43F4-9C1B-229170841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ИДРО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516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 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404640"/>
            <a:ext cx="7914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МЕДИЦИНЕ</a:t>
            </a:r>
            <a:br>
              <a:rPr sz="2400"/>
            </a:b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ФИЗИКАЛНА МЕДИЦИНА И РЕХАБИЛИТАЦИЈА</a:t>
            </a:r>
            <a:br>
              <a:rPr sz="1800"/>
            </a:b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Наставна једини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д деловањем термо д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 воде долази до ширења крвних судова у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, а у унутрашњим органима настаје вазоконстрикција сем у срцу и бубрезима. Потребно је знати да се и крвни судови у централном нервном систему понашају као крвни судови у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, а што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довести до цереброваскуларних ош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а, посебно код особа са повишеном тензијом и органски измењеним крвним суд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има због артерио и атерос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лероз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опле процедуре убрзавају с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ни рад, дисање постаје продубљено, а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упке постаје убрзано и површно. Дуготрајне процедуре топлом водом смањују тонус миш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а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алфа спас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ст), смањују тонус и успорење функција ЦНС-а, изазивају замор, тромост, инертност и пад мотивисаности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Индиферентна темп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опла вода делује на смањење надр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љивости периферних нерава па се м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 користити за смањење болов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Деловање хладне воде огледа се у двофазној реакцији.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најпре побледи услед васконстрикције, а затим следе црвенило и вазодилатација.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г деловања хладне воде долази до парализе вазомотора, проширења крвних судова, успорења циркулације, цијанозе и хлад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Деловање хладне воде огледа се и у успорењу с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ног рада, бољем пуњењу крвних судова (пулса),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њу тензије, дубљем дисању,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њу метаболизма. Та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се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ва број белих и црвених крвних зрнаца.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ва се тонус скелетне мускулатуре, али ако хлад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делује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време долази до спазмолизе и смањења тонуса (деловање на нивоу гама спастицност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д појединих особа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г деловања хладне воде могу се појавити грчеви у ногама који су најчешће у задњој лози подколенице. Краткотрајне хладне апликације делују над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јно у смислу тонизације организма уз повишење радне способности и побољшања менталне активнос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Подела хидротерапијских процедура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2057040"/>
            <a:ext cx="8424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Хидротермалне процедур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I Хидрокинетицке процед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компресе – облог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туше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олива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бисерна к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трља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одводна мас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купк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хидрокинезитерап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акова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Хидрохемијске процедур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V Хидроелектрицне процед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сумпорна купк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галванска к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борова купк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угљоводоницне купке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слана ку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 Хидрот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малне процедур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Компрес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- облоге су најједноставније хидротермалне процедуре. Могу се користити разлицити облози (хладни и топли). Најпознатији је Priesn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z-ov облог, који представља хладан облог који се покрива са неколико слојева суве тканине да се спреци контакт са ваздухом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Поливањ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мозе бити локално и опште. Користи се вода од 20-25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у трајању 3-5 мин. Затим се коза изфротира док не поцрвени. Након тога следује одмор и тај део тела се прекрије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Трљањ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се изводи влазним пешкиром или рукавицом. После влазног примењује се суво трљање. Процедура траје 5 мин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упке могу бити опште и локалне. Као опште правило узима се 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јако надразајне купке не трају дузе од 5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купке умереног деловања трају 10-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купке индиферентне темепратуре могу трајати и ду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од 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осле општих купки потребан је одмор од најмање 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) Наизме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е купке представљају процес наизме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е апликације хладне и топле воде. У једном суду је вода са температуром од 10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а у другом суду је температура воде 40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Болесник ставља третирани сегмент тела (нога или рука) у вруцу воду до 5 минута, а затим дрзи у хладној води 1 минут. Ова измена топло-хладно се обавља у једном третману око 5-7 пу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б) Хауфеове купке - поцетна температура воде износи 35-36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Температура воде постепено се повецава, током 10-12 минута, на 42-43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финиција 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дротерапија подразумева спољну примену топле и хладне воде у циљу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аковања, као метод хидротерапијских процедура, подразумева увијање тела или одредјеног сегмента у мокре царшаве који се претходно потопе у хладну воду и исцеде. У третираном сегменту долази до вазоконстрикције, коју убрзо смењује вазодилатација.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Ова процедура делује седативно усле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деплеторног деловања на ЦНС због периферне васодилат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деловања загрејаног ваздуха измедју мокрог царшава и тела (водена загрејана пара) на завршетке сензитивних нер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мировања и одсуства механицких надразаја на коз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аковања се користе и код упорних несаница које не реагују на медикаментозну терапију. Сува паковања - увијање пацијента у сув царшав и затим у цебе, углавном се користи после других општих хидротермалних процед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Тушев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представљају усмерени млаз воде на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и сегмент тела под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им притиском,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ом температуром и дефинисаним млазом. При примени тушева користе се две врсте над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аја: терм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и меха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. Меха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над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ај је код примене туша основни циљ, а терм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је секундаран. Код примене купки тај однос је био обр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температури тушеви се деле на хладне, до 20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прохладне до 30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и топле изнад те температурне вис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притиску воде ,тушеви се деле на тушеве са ниским притиском, (до 1 атм)и тушеве са високим притиском (преко 1 ат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облику млаза постоје струјни, циркуларни и кишни ту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Шкотски туш, Шаркот туш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Бисерна када (вртл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на купка) представља хидрокинет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ку процедуру са индиферентном температуром вод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Подводна масаза представља млаз воде индиферентне темепратуре под одредјеним притиском, који се у кади или базену напуњеним водом усмерава према оболелом сегменту тела. Преко од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них наставака на крају млазнице м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се мењати притисак млаза воде. Об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но се користи притисак од 101,3-202,6 k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. По правилу се подводна мас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 изводи од периферије ка центру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Процедура траје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10-15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минута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,.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Серија има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10-15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пликација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Хидрокинезитерапиј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представља програм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би у води. Дејство хидрокинезитерапије се заснива на след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м принципи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Архимедов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температур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психолошки ефек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химедов за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582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рема Арцхимедовом принципу тело губи онолико од своје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е колико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 њиме истиснут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ност. Специф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воде је 1,0 а нашег тела 1,036, што зн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 да је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тела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 за само 36/1000 од истог волумена воде. Ако потопимо цело тело са главом испод воде, онда укуп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тела од 70 kgr износи 2,52 kgr (70 x 0,036 = 2,52 kgr, Kowarschik, 1957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Специфиц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слане воде је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 од слатке воде.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Морска вода има салинитет око 3%. У појединим бањским л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лиштима салинитет је још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, па математ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ки говоримо о негативној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и тела која износи 3 кг и више. Овакви услови омог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вају лакши покрет и пацијент на псих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ком плану до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вљава задовојство и сигур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хемијске процедур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801800"/>
            <a:ext cx="80755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Хидрохемијске процедуре комбинују фармаколошко деловање одр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них материја које минерална вода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 или се додају хемијске материје (сумпор, етер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уља, угљен диоксид и др.), са физ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им и терм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им деловањем воде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ве материје делују надр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јно на ко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поред тога постоји и ефекат услед транскутане ресорпције хемијски активних матер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гљенокиселе купке (куп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CO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делују преко рецептора за топлоту и примењују се са темературом од 35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на п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тку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а, која се с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в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к и до 26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на крају терапијске серије. На п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тку процедура траје 5, а на крају 15 минута. За време примене ових купки саветује се мировање у кади или базену. Број апликација у једној серији об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о износи 15. 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за време купке јако поцрвени због деловања мехур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2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терморецепторе. Након ових купки, које због свог деловања сназно опте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ју кардиоваскуларни систем, саветује се одмор од 2 с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хемијске процедур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електричне куп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алванска к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етворoћeличнe купk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627280" y="907920"/>
            <a:ext cx="383076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176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сторијат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Хидротерапија се користи према писаним изворима од којих је најстарији из Индије, као један од првих физикалних агенаса. Емпиријски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век је п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о кори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е воде у циљу хигијене и расхл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вања. У старој Грчкој вода је кори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на у циљу 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а, тако Хипократ (460-377 год. пне) пише да се применом хладне воде могу 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ти отоци, улцерације, гихтозне афекције и сл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сторијат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Dutch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YUDutchB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 старом Риму поред логора војске и болница обевезан објекат су била и купатила. Ова купатила су има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грејану просторију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тепи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сторију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свлачење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подите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топло купатило са кадицама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л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упатило са базеном и хладном водом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фиги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Гален је користио хидортерапијске процедуре за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е Римских гладијат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 средњем век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ако има отпора према свим на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им људ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јављају се емпир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ри који препор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ју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е водом у разним бањ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особин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рм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 деловање воде и деловање хидростатског прит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да имa 25 пут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у топ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 проводљивост од ваздух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диферентна температура воде износи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Хидротермална скал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 по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Cordes-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0958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ance YU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1600200"/>
          <a:ext cx="8209080" cy="4791240"/>
        </p:xfrm>
        <a:graphic>
          <a:graphicData uri="http://schemas.openxmlformats.org/drawingml/2006/table">
            <a:tbl>
              <a:tblPr/>
              <a:tblGrid>
                <a:gridCol w="503280"/>
                <a:gridCol w="1441440"/>
                <a:gridCol w="1800360"/>
                <a:gridCol w="925560"/>
                <a:gridCol w="1306440"/>
                <a:gridCol w="1119240"/>
                <a:gridCol w="11127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адна диферентна 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 осећа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ферентна </a:t>
                      </a:r>
                      <a:br>
                        <a:rPr sz="1600"/>
                      </a:b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пла диферентна 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 осећа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-30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ж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-3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п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25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-40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ло топ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1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л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-36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јатно мл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42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ућ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12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ијатн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-44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6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дношљив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-46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ијатно 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0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-4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дношљиво 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1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озирање по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ordes-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ерапија у индиферентној температури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трајати сатима.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д I до IV степена термоскале терапија се дозира у минутима, а у V и VI степену термоскале у секундам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идротерапијска реакција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Baruc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задовољавај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хидротерапијска 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дефектна реакција - пацијент ос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језу (треба смањити време или површину аплика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лоша реакција - језа, цвокотање и цијаноза (скратити време  и површину апликације уз фротирање, а понекад и прекинути хидротерапију хладном вод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0584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опла вода изазива црвенило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оје је узроковано вазодилатацијом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р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процедуре преко 40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зазивају вазоконстрикцију, језу у кратком временском интервалу и затим се јавља вазодила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8:14:35Z</dcterms:created>
  <dc:creator>PAKOM</dc:creator>
  <dc:description/>
  <dc:language>en-US</dc:language>
  <cp:lastModifiedBy>veliki</cp:lastModifiedBy>
  <dcterms:modified xsi:type="dcterms:W3CDTF">2014-02-12T14:20:01Z</dcterms:modified>
  <cp:revision>12</cp:revision>
  <dc:subject/>
  <dc:title>HIDROTERAPIJA</dc:title>
</cp:coreProperties>
</file>